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14B-D995-4699-9180-68E9EC4F2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4C32-1713-478D-AB0A-0AF55E6BCE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152A-DA29-44D0-BE15-81A1108A3D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323-A299-45DE-B711-58613A4A08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hough Google Docs &amp; Spreadsheets (http://docs.google.com) is currently the recommended online collaborative editing Web site, add the URL of the Web site you have chosen to u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D26C-05A0-4E9E-8FAE-FF771394DDA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64A2-AD75-43F1-9E12-A4AB9F9BCF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D5EA-FA41-40FE-AEC7-3A48A597895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o-RO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8FA-ABD7-4938-A91A-8FF83E8476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http://isc4lugojna.wikispaces.com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http://isc3timisoarana.wikispaces.com/  </a:t>
            </a:r>
            <a:r>
              <a:rPr b="1" lang="ro-RO" sz="1200" spc="-1" strike="noStrike">
                <a:solidFill>
                  <a:srgbClr val="ffffff"/>
                </a:solidFill>
                <a:latin typeface="Verdana"/>
              </a:rPr>
              <a:t>http://iscbihor1na.wikispaces.com/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C9E2-41D2-40D9-9A82-38B2FE3B72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6E2C-DAAA-49B2-98E8-7C8CC8D31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2221-AF6D-4738-9401-BBBEBCAF9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6ADF-2E75-4C73-982D-E9DE2305B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1160-0E75-4538-9E41-342252ECD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8392-BAE9-40FA-82A3-F084C81B3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6C25-0CA1-413A-9CC8-6C2340BDA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E3F1-BCB2-4F8C-81B3-7F790AF89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0903-3A04-442B-9682-0EFF2E07D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B6A9-66B1-46AF-8348-42488CE3C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B200-6A62-4788-95EA-5FD5A5CA4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7584-10A3-4DCB-A2B5-CA462E3CC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B963-E8FA-47AB-95CF-7161EA829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1CA0-1C44-478D-94BB-4231C7DB57C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sc4lugojna.wikispaces.com/" TargetMode="External"/><Relationship Id="rId2" Type="http://schemas.openxmlformats.org/officeDocument/2006/relationships/hyperlink" Target="http://isc4lugojna.wikispaces.com/" TargetMode="External"/><Relationship Id="rId3" Type="http://schemas.openxmlformats.org/officeDocument/2006/relationships/hyperlink" Target="http://isc4lugojna.wikispaces.com/" TargetMode="External"/><Relationship Id="rId4" Type="http://schemas.openxmlformats.org/officeDocument/2006/relationships/package" Target="../embeddings/oleObject1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2.ppt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Wiki%20blog.ppt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sc4lugojna.blogspot.com/" TargetMode="External"/><Relationship Id="rId2" Type="http://schemas.openxmlformats.org/officeDocument/2006/relationships/package" Target="../embeddings/oleObject1.ppt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sc4lugojna.wikispaces.com/message/list/Modul+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F:/Curs%20Intel%20Teach/Modul%203/haosul_dreptului_de_autor.ppt" TargetMode="External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: Realizarea conexiunil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7697-36C8-4963-82AC-52A5AC54F4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560" y="169560"/>
            <a:ext cx="8947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3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tilizarea Internetului pentru cercetare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(40 de minute) </a:t>
            </a:r>
            <a:br>
              <a:rPr sz="1200"/>
            </a:br>
            <a:br>
              <a:rPr sz="1200"/>
            </a:br>
            <a:r>
              <a:rPr b="1" lang="vi-VN" sz="1200" spc="-1" strike="noStrike">
                <a:solidFill>
                  <a:srgbClr val="0860a8"/>
                </a:solidFill>
                <a:latin typeface="Verdana"/>
              </a:rPr>
              <a:t>Descărcaţi de pe site-ul wiki </a:t>
            </a:r>
            <a:r>
              <a:rPr b="1" lang="vi-VN" sz="12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isc</a:t>
            </a:r>
            <a:r>
              <a:rPr b="1" lang="en-US" sz="12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4lugojna</a:t>
            </a:r>
            <a:r>
              <a:rPr b="1" lang="vi-VN" sz="12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.wikispaces.com</a:t>
            </a:r>
            <a:r>
              <a:rPr b="1" lang="en-US" sz="1200" spc="-1" strike="noStrike">
                <a:solidFill>
                  <a:srgbClr val="3a119f"/>
                </a:solidFill>
                <a:latin typeface="Verdana"/>
              </a:rPr>
              <a:t> </a:t>
            </a:r>
            <a:r>
              <a:rPr b="1" lang="vi-VN" sz="1200" spc="-1" strike="noStrike">
                <a:solidFill>
                  <a:srgbClr val="3a119f"/>
                </a:solidFill>
                <a:latin typeface="Verdana"/>
              </a:rPr>
              <a:t> </a:t>
            </a:r>
            <a:r>
              <a:rPr b="1" lang="vi-VN" sz="1200" spc="-1" strike="noStrike">
                <a:solidFill>
                  <a:srgbClr val="0860a8"/>
                </a:solidFill>
                <a:latin typeface="Verdana"/>
              </a:rPr>
              <a:t>Diagrama KWL în folderul Evaluare, completaţi primele două coloane din fiecare slide.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360" y="1800360"/>
            <a:ext cx="87314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1: Localizarea resurselor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3.0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funcţie de experienţa pe care o aveţi, alegeţi o opţiune de căut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1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Desfăşurarea unei căutări pe baza de web (page 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:Utilizarea motoarelor de căutare specializate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3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Găsirea şi salvarea imaginilor, sunetelor şi filmelor video de pe site-uri web (page 3.08) Vizualizați și Tutorial descărcare filme  youtube.doc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Evaluarea resurselor web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3.09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fişierele pentru evaluarea resurselor web, din </a:t>
            </a:r>
            <a:r>
              <a:rPr b="0" lang="en-US" sz="11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modulul3/activitatea3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)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liste de verificare/evaluarea critică a informaţiilor de pe Internet şi discutaţi cu un partener rezultatele acestei căutări, modul în care i-aţi putea ajuta pe elevi să evalueze mai critic resursele web pe care le utilizeaz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letaţi planul de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7659720" y="3481560"/>
          <a:ext cx="1060560" cy="828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59720" y="3481560"/>
                    <a:ext cx="1060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7839000" y="1609560"/>
          <a:ext cx="922320" cy="6922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39000" y="1609560"/>
                    <a:ext cx="9223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792-C73F-44CB-A553-4A6B3FAEE4D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4280" y="149040"/>
            <a:ext cx="86486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4 Comunicarea cu lumea prin Interne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1000" y="771120"/>
            <a:ext cx="87822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 1: Analizarea instrumentelor de comunicare prin Internet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10/ 10 minute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strumente de comunicare bazate pe Interne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E-mail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metodă de comunicare între două persoane;poate fi utilizat pentru multiple scopuri educaţionale (transmiterea liste de probleme, a temelor..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Chat-uri Onlin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amere virtuale, unde pe baza unui anumit topic de conversaţie se “întâlnesc” persoane cu interese comune (elevii pot utiliza chat-urile pentru a adresa întrebări, pentru a colabora cu colegii…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Mesaje Instant (IM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rmit oamenilor să solicite şi să trimită mesaje text în timp real unor persoane de contact preselectate care sunt online în momentul respectiv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ex Skype,Yahoo Messenger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Studiu/Sondaj de opinie =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ate fi realizat pentru a aduna, analiza şi exporta datele de la respondenți; wiki secțiunea discuți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0c0"/>
                </a:solidFill>
                <a:latin typeface="Verdana"/>
              </a:rPr>
              <a:t>Protocol pentru Internet Voice Over (VoIP) =</a:t>
            </a:r>
            <a:r>
              <a:rPr b="0" lang="ro-RO" sz="1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tehnologie de comunicare care permite persoanelor din toata lumea să vorbească între ei în timp real sau să efectueze apeluri telefonice prin Internet (ex Skype,Yahoo Messenger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02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16360" indent="-21528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vedeţi tabelul de la pag 3.11 pentru compararea posibilităţilor de comunicare online (Vezi pag B19 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1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1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AB75-631E-461C-B514-0B9709320D6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4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619280"/>
            <a:ext cx="875196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Analizaţi instrumentele de comunicare pentru a le corela cu unitatea dumneavoastră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lectaţi unul sau mai multe dintre următoarele instrumente de comunicaţii pentru a-l examina în detaliu şi utilizare în unitatea dumneavoastră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1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E-ma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2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Ch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3: </a:t>
            </a:r>
            <a:r>
              <a:rPr b="1" lang="ro-RO" sz="1400" spc="-1" strike="noStrike">
                <a:solidFill>
                  <a:srgbClr val="0070c0"/>
                </a:solidFill>
                <a:latin typeface="Verdana"/>
              </a:rPr>
              <a:t>Mesaje Instant (IM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4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Studiu/Sondaj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4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31360" indent="-3013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ptiunea 5: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rotocol pentru Internet Voice Over (VoIP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page 3.15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-22752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orice resursă cu informaţii utile cu privire la modul de utilizare a acestor instrumente în sala de clas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2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Notă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Toate site-urile web menţionate în prezentul modul sunt disponibile  in fişierul ”site-uri web pentru modulul 3” din  folder-ul Modulul 3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7304040" y="155520"/>
          <a:ext cx="1278000" cy="99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4040" y="155520"/>
                    <a:ext cx="1278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ED4-F68E-4BB5-9FB9-857D86BECF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0160" y="272880"/>
            <a:ext cx="88534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5: Studiul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i prin co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operare pri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web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16/ 20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760" y="2015640"/>
            <a:ext cx="823752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-22032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avantajele şi dezavantajele fiecărei resurse din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tabelul de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pag.3.16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1400" indent="-22032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ploraţi online site-uri web de colaborare; aceste informaţii vă vor ajuta să luaţi în considerare felul în care puteţi utiliza aceste instrumente pentru a sprijini obiectivele de învăţare şi colaborarea elevilor în cadrul unităţii dumneavoastr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1400" indent="-22032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ik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Blog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umul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 discuț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utoria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a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Web 2.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21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D6E-B1A2-45DA-BB3B-F86CF0D7496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89154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e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6: Utilizarea site-ului de colaborare online pentru a  schimba idei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20/40 minute) 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14160"/>
            <a:ext cx="842148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itaţi site-ul web de colaborarea online :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[docs.google.com]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nect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programul online de calcul tabelar :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it-IT" sz="1600" spc="-1" strike="noStrike">
                <a:solidFill>
                  <a:srgbClr val="ff0000"/>
                </a:solidFill>
                <a:latin typeface="Verdana"/>
              </a:rPr>
              <a:t>Grupa 4 Lugoj Unitati de invatare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/ 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Registru date personale cursanti Lugoj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 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fişa de lucru online şi căutaţi unde aveţi atribuit un rând, unde veţi putea introduce informaţii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dăugaţi informaţii din Planul dumneavoastră de Unitate în fişa de calcul tabelar online;(specificaţi numele dumneavoastră pe lini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alizaţi unităţile care sunt create de ceilalţi profesori din intervalul claselor la care predaţ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aţi în considerare următoarele aspecte în momentul analize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Unităţile lor sunt similare sau complementare acesteia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tivitatea desfasurată cu un alt profesor ar fi benefică pentru dumneavoastră pe masură ce va dezvoltaţi ideile de unitate şi componentele portofoliului de unitate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ontactaţi profesorii cu care aţi dori să colaboraţ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5E0-05E2-4B3E-B137-AE208E2ED8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  6: Utilizarea site-ului de colaborare online pentru a face schimburi de 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1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2016000"/>
            <a:ext cx="82375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grupuri mic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vedere puncte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vo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le fie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i instrument, cum ar putea acestea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jute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tin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biectivele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structura utilizarea instrumen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entru a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 schim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propu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?(extin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deile pentru utilizarea In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net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parcursul activ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lanifica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avan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formatii despre construirea unui site de editare in colaborare pentru propriul curs ( pag B3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663E-2DF5-48E1-B070-D8B07938AAA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9520" y="272880"/>
            <a:ext cx="85028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574280"/>
            <a:ext cx="83073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as  1: Recapitularea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lementele cheie pentru modulul 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ternetul poate fi un instrument puternic de cercetare, colaborare si comunicare cu 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unile pentru o utilizare loi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scriu moduril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materialele protejate de drepturile de autor pot fi folos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legal de 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re profesor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lev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la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istele  bibliograf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 pot fi cre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diverse formate pentru elevi de toate 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stel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tilizarea profesionis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 strategiilor de cercetare permite elev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g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nform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 utile pe web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eficien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 varietate de factori  trebuie lu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nsider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se stabil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 credibilitat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valoarea unui site web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mentele care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munice cu persoane din to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lumea prin Internet: E-mail, Chat-uri online, mesaje instan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tocol pentru Internet  Voice Over IP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log-uri, wik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cumente  online,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eze la proiecte prin partajar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oferirea de 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punsuri cu privire la activitatea celorlalte persoan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920" y="1908000"/>
            <a:ext cx="8534160" cy="385776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DF5-95FB-4569-9F0D-D744EF79394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55760" y="1482840"/>
            <a:ext cx="8383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 2: Introducerea experienţei în 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 şi abordărilor incluse în acest modul în blog-ul dumneavoastră person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1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blog-ul: </a:t>
            </a:r>
            <a:r>
              <a:rPr b="0" lang="ro-RO" sz="2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isc4lugojna.blogspot.com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flectaţi asupra modului în care punctul central al acestui modul v-a ajutat să planificaţi şi să creaţi unitatea dumneavoastră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utiliza Internetul pentru a sprijini procesul meu de predare si procesul de învăţare al elevilo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51"/>
              </a:spcBef>
              <a:buClr>
                <a:srgbClr val="7f2e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7f2e00"/>
                </a:solidFill>
                <a:latin typeface="Verdana"/>
              </a:rPr>
              <a:t>Cum pot să asigur utlizarea responsabilă şi corespunzătoare a Internetulu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andiţi-vă la modul în care cunoştinţele pe care le-aţi dobândit din acest modul vor avea impact asupra procesului de predare şi a procesului de învăţare al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6668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7773840" y="147600"/>
          <a:ext cx="1094040" cy="854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3840" y="147600"/>
                    <a:ext cx="1094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D969-E305-49C6-83C1-C272EADD4BB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lanif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avans</a:t>
            </a:r>
            <a:br>
              <a:rPr sz="26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ncluderea Interne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3/ 5 minute prez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general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120" y="113364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de brainstorming de la pagina 3.03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not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la pagina 3.21 pentru a integra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tabelul de la pagina 3.23, se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na sau mai multe instrumente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sc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scurt modur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le 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belul ,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link-urile adnotat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instrumentele suplimentare bazate pe web  sunt disponib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directorul Modulul3/Planif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vans de pe CD-ul cu resurse curricul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) Cum ar putea oricare din urmatoarele tehnologi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) Ce resur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nstru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uni trebuie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urn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vilor pentru a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tilizarea Internetului d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a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procesul lor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27F5-3211-4883-9D13-6FE7852CC1E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rm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orul modu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5840" y="1069920"/>
          <a:ext cx="8578800" cy="4240440"/>
        </p:xfrm>
        <a:graphic>
          <a:graphicData uri="http://schemas.openxmlformats.org/drawingml/2006/table">
            <a:tbl>
              <a:tblPr/>
              <a:tblGrid>
                <a:gridCol w="2611440"/>
                <a:gridCol w="5967360"/>
              </a:tblGrid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e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tioanelor de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le proiectului din perspectiv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strategiilor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procedurilor de siguran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corespun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oare a Internetului (Politica Utili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Acceptabil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 celui mai bun instrument de prezentare pentru a demonstra ceea ce a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t elevul :realizarea  unei publicatii, prezent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, wiki sau bl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rasarea Instru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unilor procedurale pentru Unitatea d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elev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l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rii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FD1A-4323-45FA-BF22-0A21C044410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6920" y="1730160"/>
            <a:ext cx="4145040" cy="24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1: Predarea prin proiec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tarea bazată pe proiect şi design-ul unităţi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oiectarea propriei unităţ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8" name="Picture 6" descr="IM000069"/>
          <p:cNvPicPr/>
          <p:nvPr/>
        </p:nvPicPr>
        <p:blipFill>
          <a:blip r:embed="rId1"/>
          <a:stretch/>
        </p:blipFill>
        <p:spPr>
          <a:xfrm>
            <a:off x="4381560" y="1382760"/>
            <a:ext cx="4505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743D-C83B-4863-A15C-9719699B35D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286080" y="148896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219640" y="273996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0A98-17AB-401D-85EB-59CE4C20792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nde ne af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ăm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7080" y="4118040"/>
            <a:ext cx="8645400" cy="1868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ntrebarea esent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ate fi utilizată tehnologia în mod eficient pentru a susţine si evalua procesul de învăt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ntrebă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si procesul de învătare al elevilor 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se poate asigura o utilizare responsabilă si corespunză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428760"/>
          <a:ext cx="8610480" cy="367164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e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ul central: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nternetul ca suport al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(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crearea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unui wiki pentru a schimba idei pentru atingerea standardelor (competenţe specifice /obiective de referinţă) într-o clasă centrată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legilor copyright-ului( dreptul de autor) şi utilizarea acest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e documente cu lucră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si utilizarea resurselor Internet  în căutarea, comunicarea, colaborarea, rezolvarea problemelor pentru  dezvoltarea abilităţilor secolului XXI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schimba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tarea asupra propriului proces de 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8C34-8CF7-4F46-B62F-EDF4217153D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ătre ce ne îndreptăm</a:t>
            </a: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19" descr="GM__2346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7600" y="1881360"/>
            <a:ext cx="44150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4: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rea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rea unor  produse-mode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ale învăţă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Produsel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levilor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(pre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ent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public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ţi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wiki, blog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5: Evaluarea proiectelor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si su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6: P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oiectarea pentru succesul elevilor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stimularea autonomiei în învăţar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7: Facilitare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a procesului predare-învăţare-evaluare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prin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intermediul tehnologiei informaţiei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8:Prezentarea portofoliilor unit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ilor de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ar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Discutarea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355F-0A56-4C19-A248-8F8C789E5F9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6280" y="169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omunicarea în perechi şi schimb de idei asupra  experienţelor pentru a stabili nevoile elevilor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3.01/30 de minute)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993680"/>
            <a:ext cx="823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</a:t>
            </a:r>
            <a:r>
              <a:rPr b="0" lang="ro-RO" sz="2000" spc="-1" strike="noStrike">
                <a:solidFill>
                  <a:srgbClr val="c00000"/>
                </a:solidFill>
                <a:latin typeface="Verdana"/>
              </a:rPr>
              <a:t>(în perechi)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ntrebările de generare a proiectelor şi extrageţi idei pentru îmbunătăţirea acestora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artajaţi prezentarea dumneavoastră pentru a stabili nevoile elevilor. Furnizaţi răspunsuri la următoarele întrebări in timp ce discutaţ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este scopul general al evaluăr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doriţi să învăţaţi de la elevii dumneavoastră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aţi încercat să promovaţi abilitățile de gândire de ordin superi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vă vor ajuta informaţiile de evaluare pe dumneavoastră şi pe elevii dumneavoastră în planificarea activităţilor viitoare din cadrul unităţ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reacţii sau idei suplimentare căutaţi în decursul timp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15A-5673-41DF-8DC5-DC524F12851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167760"/>
            <a:ext cx="86677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tingerea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lor specifice/obiectivelor de referinţă în învăţarea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pe elev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3.02/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0 minute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680" y="1406160"/>
            <a:ext cx="823752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ţii privind aspectele problematice şi posibilele soluţii pentru atingerea competenţelor specifice/obiectivelor de referinţă într-o clasă centrată pe elevi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(3 grupe)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iecare grupă discută o singură întreb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că elevii ating competenţele specifice/obiectivele de referinţă la nivel optim din punct de vedere calitativ şi cantita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cazul în care elevii se ocupă de propriul proces de învăţare, cum putem noi fi siguri că învaţă ceea ce este importa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mă asigur în cadrul echipei, fiecare elev îşi asumă sarcinile de lucru cu responsabilitat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persoană din grupă se va conecta pe adresa site-ului web wiki şi va înregistra punctul de vedere al grupului respectiv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14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isc4lugojna.wikispaces.com/message/list/Modul+3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860a8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paginile celorlalte echipe şi adăugaţi elemente în lista lor de soluţ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C532-B18C-4FF3-9787-DD4E7F592A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Identificarea şi selectarea abilităţilor necesare în secolul XX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3769ed"/>
                </a:solidFill>
                <a:latin typeface="Verdana"/>
              </a:rPr>
              <a:t>(3.03/ 25 minute/abilităţile secolului XXI- pag 1.02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880" y="2016000"/>
            <a:ext cx="823752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modalitaţi de includere a anumitor abilităţi ale secolului XXI în unitatea dvs. de învăţare, documentare, comunicare, colaborare şi rezolvare a problemelor;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MODUL 3, ACTIVITATEA 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rasaţi ideile pentru întrebările de la pagina  3.03.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Identificarea şi selectarea competenţelor necesare în secolul XXI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-un </a:t>
            </a:r>
            <a:r>
              <a:rPr b="0" lang="ro-RO" sz="1800" spc="-1" strike="noStrike">
                <a:solidFill>
                  <a:srgbClr val="c00000"/>
                </a:solidFill>
                <a:latin typeface="Verdana"/>
              </a:rPr>
              <a:t>grup mic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um aţi putea include Internetul în clasa dumneavoastră pentru a îmbunătăţi procesul de învăţare al elevilor în ceea ce priveşte documentarea, comunicarea şi colaborarea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51440" y="4734000"/>
          <a:ext cx="1257120" cy="96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734000"/>
                    <a:ext cx="1257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Object 6" descr=""/>
          <p:cNvPicPr/>
          <p:nvPr/>
        </p:nvPicPr>
        <p:blipFill>
          <a:blip r:embed="rId3"/>
          <a:stretch/>
        </p:blipFill>
        <p:spPr>
          <a:xfrm>
            <a:off x="2003400" y="4724280"/>
            <a:ext cx="116676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38A-193E-4728-B4B2-9A074AA38D0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478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unoașterea aspectelor legale şi etice cu privire la utilizarea tehnologiei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45 minut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80" y="1725480"/>
            <a:ext cx="88632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 1: Investigarea dreptului de aut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Legile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 cu privire la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drepturile de autor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se bazează pe premisa că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orice persoană care creează o operă materială originală merită să fie protejată şi recompensată.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 Oamenii au dreptul de a controla modul în care activitatea lor originală este utilizată de alţii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7f2e00"/>
                </a:solidFill>
                <a:latin typeface="Verdana"/>
              </a:rPr>
              <a:t>Profesorii trebuie să înţeleagă ei înşişi şi să-i înveţe pe elevii lor cum să utilizeze materialele care fac obiectul dreptului de autor</a:t>
            </a:r>
            <a:r>
              <a:rPr b="0" i="1" lang="ro-RO" sz="1600" spc="-1" strike="noStrike">
                <a:solidFill>
                  <a:srgbClr val="7f2e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arcurgeţi şi completaţi testul (6 itemi) privind drepturile de autor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Vizualizaţi prezentare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 “Haosul Drepturilor de autor”/ ”Copyright Chaos” // Salvați si completați Notițe drepturi aut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4057560" y="131760"/>
          <a:ext cx="1133640" cy="885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57560" y="131760"/>
                    <a:ext cx="1133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5600880" y="127080"/>
          <a:ext cx="1215720" cy="949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0880" y="127080"/>
                    <a:ext cx="1215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7"/>
          <p:cNvGraphicFramePr/>
          <p:nvPr/>
        </p:nvGraphicFramePr>
        <p:xfrm>
          <a:off x="7134120" y="154080"/>
          <a:ext cx="1052640" cy="766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34120" y="154080"/>
                    <a:ext cx="1052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0911-82FE-45C3-801D-7B02F988C2D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Discutarea aspectelor legale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 utilizarea tehnologiei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2019240"/>
            <a:ext cx="82375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 2: Citarea surse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Vizualizaţi resursele bibliografice şi exemplele din directorul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ulul_3/Activitatea_2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/Lucrari citate/Sablon referinte APA) de pe CD-ul cu resurse curricul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alvaţi formatul de bibliografie, formatul MLA sau formatul APA în folder-ul suport_unitate în portofoliul dumneavoastră de exemplu cu numele Bibliografie sau referinţe (MLA= Modern Language Association; APA= American Psychological Associa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ăstrează fişierele deschise pentru următoarele activităţ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info2</cp:lastModifiedBy>
  <cp:lastPrinted>2006-11-14T00:45:04Z</cp:lastPrinted>
  <dcterms:modified xsi:type="dcterms:W3CDTF">2011-03-18T17:43:50Z</dcterms:modified>
  <cp:revision>358</cp:revision>
  <dc:subject/>
  <dc:title>Presentation Title Goes Here</dc:title>
</cp:coreProperties>
</file>